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5.png" ContentType="image/png"/>
  <Override PartName="/ppt/media/image24.jpeg" ContentType="image/jpeg"/>
  <Override PartName="/ppt/media/image3.jpeg" ContentType="image/jpeg"/>
  <Override PartName="/ppt/media/image17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86724" b="0"/>
          <a:stretch/>
        </p:blipFill>
        <p:spPr>
          <a:xfrm>
            <a:off x="0" y="0"/>
            <a:ext cx="914400" cy="9619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86724" b="0"/>
          <a:stretch/>
        </p:blipFill>
        <p:spPr>
          <a:xfrm>
            <a:off x="0" y="914400"/>
            <a:ext cx="914400" cy="96192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rcRect l="0" t="0" r="86724" b="0"/>
          <a:stretch/>
        </p:blipFill>
        <p:spPr>
          <a:xfrm>
            <a:off x="0" y="1828800"/>
            <a:ext cx="914400" cy="9619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rcRect l="0" t="0" r="86724" b="0"/>
          <a:stretch/>
        </p:blipFill>
        <p:spPr>
          <a:xfrm>
            <a:off x="0" y="2743200"/>
            <a:ext cx="914400" cy="961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6"/>
          <a:srcRect l="0" t="0" r="86724" b="0"/>
          <a:stretch/>
        </p:blipFill>
        <p:spPr>
          <a:xfrm>
            <a:off x="0" y="3657600"/>
            <a:ext cx="914400" cy="9619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7"/>
          <a:srcRect l="0" t="0" r="86724" b="0"/>
          <a:stretch/>
        </p:blipFill>
        <p:spPr>
          <a:xfrm>
            <a:off x="0" y="4572000"/>
            <a:ext cx="914400" cy="961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8"/>
          <a:srcRect l="0" t="0" r="86724" b="0"/>
          <a:stretch/>
        </p:blipFill>
        <p:spPr>
          <a:xfrm>
            <a:off x="0" y="5486400"/>
            <a:ext cx="914400" cy="9619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9"/>
          <a:srcRect l="0" t="0" r="86724" b="50037"/>
          <a:stretch/>
        </p:blipFill>
        <p:spPr>
          <a:xfrm>
            <a:off x="0" y="6377040"/>
            <a:ext cx="914400" cy="4809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352680" y="762120"/>
            <a:ext cx="342900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e4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tageCoach"/>
              </a:rPr>
              <a:t>Gilded</a:t>
            </a:r>
            <a:endParaRPr b="0" lang="en-US" sz="2400" spc="1" strike="noStrike">
              <a:ln w="22320">
                <a:solidFill>
                  <a:srgbClr val="e4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tageCoach"/>
              <a:ea typeface="StageCoach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e4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tageCoach"/>
              </a:rPr>
              <a:t>Age</a:t>
            </a:r>
            <a:endParaRPr b="0" lang="en-US" sz="2400" spc="1" strike="noStrike">
              <a:ln w="22320">
                <a:solidFill>
                  <a:srgbClr val="e4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tageCoach"/>
              <a:ea typeface="StageCoach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e4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tageCoach"/>
              </a:rPr>
              <a:t>Politics</a:t>
            </a:r>
            <a:endParaRPr b="0" lang="en-US" sz="2400" spc="1" strike="noStrike">
              <a:ln w="22320">
                <a:solidFill>
                  <a:srgbClr val="e4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tageCoach"/>
              <a:ea typeface="StageCoach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43000" y="5257800"/>
            <a:ext cx="777240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e4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tageCoach"/>
              </a:rPr>
              <a:t>(The Politics of Equilibrium)</a:t>
            </a:r>
            <a:endParaRPr b="0" lang="en-US" sz="2400" spc="1" strike="noStrike">
              <a:ln w="22320">
                <a:solidFill>
                  <a:srgbClr val="e4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tageCoach"/>
              <a:ea typeface="StageCoa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2120" y="76320"/>
            <a:ext cx="838188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StageCoach"/>
              </a:rPr>
              <a:t>Chester A. Arthur: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StageCoach"/>
              </a:rPr>
              <a:t>The Fox in the Chicken Cou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43000" y="1752480"/>
            <a:ext cx="7772400" cy="4605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14400" y="228600"/>
            <a:ext cx="81532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StageCoach"/>
              </a:rPr>
              <a:t>Pendleton Act (1883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768320"/>
            <a:ext cx="3962520" cy="39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375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Civil Service A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375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 “Magna Carta” of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civil service ref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375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1883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14,000 out of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117,000 federal govt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jobs became civi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service exam posi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375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1900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100,000 out of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200,000 civil service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federal govt. job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965400" cy="4038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66680" y="152280"/>
            <a:ext cx="78487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StageCoach"/>
              </a:rPr>
              <a:t>Republican “Mugwumps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1143000"/>
            <a:ext cx="7391160" cy="58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eformers who wouldn’t re-nominat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hester A. Arthur (R’s who voted for D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eform to them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reate a disinterested, impartial govt. run by an educated elite like themselv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ocial Darwinis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Laissez faire government to the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1160"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avoritism &amp; the spoils system seen as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govt. intervention in socie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1160"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ir target was political corruption,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not social or economic reform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638680" y="380880"/>
            <a:ext cx="320040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StageCoach"/>
              </a:rPr>
              <a:t>The</a:t>
            </a: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StageCoach"/>
              </a:rPr>
              <a:t>Mugwum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47920" y="304920"/>
            <a:ext cx="3917880" cy="6324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5715000" y="2438280"/>
            <a:ext cx="3124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Men may come and men may go, but the work of reform shall go on for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51814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ill suppor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eveland in th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884 e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057400" y="304920"/>
            <a:ext cx="61722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StageCoach"/>
              </a:rPr>
              <a:t>1884 Presidential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6000" t="3511" r="3997" b="3511"/>
          <a:stretch/>
        </p:blipFill>
        <p:spPr>
          <a:xfrm>
            <a:off x="1523880" y="1371600"/>
            <a:ext cx="3006720" cy="4038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1523880" y="56386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rover Cleveland         James Blain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DEM)                              (R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486400" y="1371600"/>
            <a:ext cx="3013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81080" y="228600"/>
            <a:ext cx="6172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StageCoach"/>
              </a:rPr>
              <a:t>A Dirty Campa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981080" y="1219320"/>
            <a:ext cx="6000840" cy="4286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523880" y="56545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Comic Sans MS"/>
              </a:rPr>
              <a:t>Ma, Ma…where’s my pa?</a:t>
            </a:r>
            <a:br>
              <a:rPr sz="2400"/>
            </a:br>
            <a:r>
              <a:rPr b="1" i="1" lang="en-US" sz="2400" spc="-1" strike="noStrike">
                <a:solidFill>
                  <a:srgbClr val="c00000"/>
                </a:solidFill>
                <a:latin typeface="Comic Sans MS"/>
              </a:rPr>
              <a:t>He’s going to the White House, ha… ha… ha…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81080" y="395280"/>
            <a:ext cx="61722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StageCoach"/>
              </a:rPr>
              <a:t>Little Lost Mugwum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6443640" cy="392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676520" y="5867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laine in 18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66680" y="243000"/>
            <a:ext cx="78487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StageCoach"/>
              </a:rPr>
              <a:t>Rum, Romanism &amp; Rebellio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1447920"/>
            <a:ext cx="4267080" cy="46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Led a delegation of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ministers to Blaine in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NY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eference to the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Democratic Par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Blaine was slow to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epudiate the rema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Narrow victory f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leveland [he wins NY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by only 1149 votes!]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12012" t="10033" r="13814" b="10033"/>
          <a:stretch/>
        </p:blipFill>
        <p:spPr>
          <a:xfrm>
            <a:off x="1371600" y="1523880"/>
            <a:ext cx="2819520" cy="3657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1295280" y="54100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r. Samuel Burch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81080" y="395280"/>
            <a:ext cx="61722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StageCoach"/>
              </a:rPr>
              <a:t>1884 Presidential El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7696080" cy="4133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66680" y="152280"/>
            <a:ext cx="78487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StageCoach"/>
              </a:rPr>
              <a:t>Cleveland’s First Te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1349280"/>
            <a:ext cx="739152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“Veto Governor” from New Y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irst Democratic elected since 1856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A public office is a public trus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His laissez-faire presidenc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Opposed bills to assist the poor a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ell as the ri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etoed over 200 special pension bill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or Civil War veteran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304920"/>
            <a:ext cx="80010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StageCoach"/>
              </a:rPr>
              <a:t>1.  A Two-Party Stalemate (or balance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>
            <a:lum contrast="6000"/>
          </a:blip>
          <a:srcRect l="16974" t="0" r="18137" b="0"/>
          <a:stretch/>
        </p:blipFill>
        <p:spPr>
          <a:xfrm>
            <a:off x="0" y="1219320"/>
            <a:ext cx="5113440" cy="5257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105520" y="1295280"/>
            <a:ext cx="4038480" cy="5105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90720" y="228600"/>
            <a:ext cx="8001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StageCoach"/>
              </a:rPr>
              <a:t>Bravo, Señor Cleveland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6096240" cy="5338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66680" y="152280"/>
            <a:ext cx="78487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StageCoach"/>
              </a:rPr>
              <a:t>The Tariff Iss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1295280"/>
            <a:ext cx="7391520" cy="50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fter the Civil War, Congress raised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ariffs to protect new US indus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Big business wanted to continue this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onsumers did no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885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ariffs earned the US $100 mil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  in surplu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Mugwumps opposed it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e40000"/>
                </a:solidFill>
                <a:latin typeface="Comic Sans MS"/>
              </a:rPr>
              <a:t>WHY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resident Cleveland’s view on tariffs</a:t>
            </a:r>
            <a:r>
              <a:rPr b="1" lang="en-US" sz="2600" spc="-1" strike="noStrike">
                <a:solidFill>
                  <a:srgbClr val="e40000"/>
                </a:solidFill>
                <a:latin typeface="Comic Sans MS"/>
              </a:rPr>
              <a:t>?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ariffs became a major issue in the 1888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residential ele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05120" y="76320"/>
            <a:ext cx="6172200" cy="149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333399"/>
                </a:solidFill>
                <a:latin typeface="StageCoach"/>
              </a:rPr>
              <a:t>Filing the Rough Edg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971800" y="990720"/>
            <a:ext cx="4002120" cy="5138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1447920" y="61722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ariff of 18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95280" y="304920"/>
            <a:ext cx="7543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StageCoach"/>
              </a:rPr>
              <a:t>1888 Presidential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6000" t="0" r="3997" b="0"/>
          <a:stretch/>
        </p:blipFill>
        <p:spPr>
          <a:xfrm>
            <a:off x="1600200" y="1295280"/>
            <a:ext cx="3006720" cy="4343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410080" y="1295280"/>
            <a:ext cx="3033720" cy="4343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1600200" y="57150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rover Cleveland     Benjamin Harris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DEM)                           </a:t>
            </a:r>
            <a:r>
              <a:rPr b="1" lang="en-US" sz="2000" spc="-1" strike="noStrike">
                <a:solidFill>
                  <a:srgbClr val="e4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e40000"/>
                </a:solidFill>
                <a:latin typeface="Comic Sans MS"/>
              </a:rPr>
              <a:t>*</a:t>
            </a:r>
            <a:r>
              <a:rPr b="1" lang="en-US" sz="2000" spc="-1" strike="noStrike">
                <a:solidFill>
                  <a:srgbClr val="e4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R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90720" y="152280"/>
            <a:ext cx="81532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StageCoach"/>
              </a:rPr>
              <a:t>Coming Out for Harris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23880" y="1066680"/>
            <a:ext cx="6934320" cy="5437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43000" y="152280"/>
            <a:ext cx="7772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StageCoach"/>
              </a:rPr>
              <a:t>The Smallest Specimen Y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contrast="6000"/>
          </a:blip>
          <a:srcRect l="0" t="0" r="0" b="4000"/>
          <a:stretch/>
        </p:blipFill>
        <p:spPr>
          <a:xfrm>
            <a:off x="2400480" y="1066680"/>
            <a:ext cx="5067000" cy="5486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981080" y="395280"/>
            <a:ext cx="61722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StageCoach"/>
              </a:rPr>
              <a:t>1888 Presidential El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7696080" cy="4133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05120" y="304920"/>
            <a:ext cx="61722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StageCoach"/>
              </a:rPr>
              <a:t>Disposing the Surpl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23880" y="1600200"/>
            <a:ext cx="6553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905120" y="152280"/>
            <a:ext cx="61722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StageCoach"/>
              </a:rPr>
              <a:t>Changing Public Opin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1143000"/>
            <a:ext cx="77724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ericans wanted the federal govt. to de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ith growing soc. &amp; eco. problems &amp; to curb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power of the tru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rstate Commerce Act – 18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erman Antitrust Act – 18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cKinley Tariff – 18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2920" indent="-284040">
              <a:lnSpc>
                <a:spcPct val="100000"/>
              </a:lnSpc>
              <a:spcBef>
                <a:spcPts val="1500"/>
              </a:spcBef>
              <a:buClr>
                <a:srgbClr val="e4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sed on the theory that prosperit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lowed directly from protectio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2920" indent="-284040">
              <a:lnSpc>
                <a:spcPct val="100000"/>
              </a:lnSpc>
              <a:spcBef>
                <a:spcPts val="1500"/>
              </a:spcBef>
              <a:buClr>
                <a:srgbClr val="e4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creased already high rates another 4%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p. Party suffered big losses in 1890 (ev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cKinley lost his House seat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95280" y="304920"/>
            <a:ext cx="7543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StageCoach"/>
              </a:rPr>
              <a:t>1892 Presidential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6000" t="0" r="3997" b="0"/>
          <a:stretch/>
        </p:blipFill>
        <p:spPr>
          <a:xfrm>
            <a:off x="1600200" y="1295280"/>
            <a:ext cx="3006720" cy="4343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410080" y="1295280"/>
            <a:ext cx="3033720" cy="4343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1600200" y="5715000"/>
            <a:ext cx="7162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rover Cleveland     Benjamin Harris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again! </a:t>
            </a:r>
            <a:r>
              <a:rPr b="1" lang="en-US" sz="2400" spc="-1" strike="noStrike">
                <a:solidFill>
                  <a:srgbClr val="e40000"/>
                </a:solidFill>
                <a:latin typeface="Comic Sans MS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(DEM)                         (R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4120" y="1752480"/>
            <a:ext cx="3504960" cy="47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StageCoach"/>
              </a:rPr>
              <a:t>2.  Intense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StageCoach"/>
              </a:rPr>
              <a:t>Voter Loyalty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StageCoach"/>
              </a:rPr>
              <a:t>to the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StageCoach"/>
              </a:rPr>
              <a:t>Two Major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StageCoach"/>
              </a:rPr>
              <a:t>Political Pa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contrast="6000"/>
          </a:blip>
          <a:srcRect l="0" t="0" r="0" b="12499"/>
          <a:stretch/>
        </p:blipFill>
        <p:spPr>
          <a:xfrm>
            <a:off x="1371600" y="0"/>
            <a:ext cx="347652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057400" y="471600"/>
            <a:ext cx="61722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StageCoach"/>
              </a:rPr>
              <a:t>1892 Presidential El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696080" cy="4133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152280"/>
            <a:ext cx="7772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StageCoach"/>
              </a:rPr>
              <a:t>Cleveland Loses Support Fa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1143000"/>
            <a:ext cx="723888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nly President to serve two non-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ecutive te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lamed for the 1893 Pa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fended the gold stand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d federal troops in the 189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ullman str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fused to sign the Wilson-Gorma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ariff of 189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pealed the Sherman Silver Purchase 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66680" y="304920"/>
            <a:ext cx="7848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StageCoach"/>
              </a:rPr>
              <a:t>3.  Well-Defined Voting Bl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1447920"/>
            <a:ext cx="1981080" cy="914400"/>
          </a:xfrm>
          <a:prstGeom prst="rect">
            <a:avLst/>
          </a:prstGeom>
          <a:solidFill>
            <a:srgbClr val="c00000"/>
          </a:solidFill>
          <a:ln w="0">
            <a:noFill/>
          </a:ln>
          <a:effectLst>
            <a:outerShdw dist="17819" dir="2700000" blurRad="0" rotWithShape="0">
              <a:srgbClr val="72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mocratic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1447920"/>
            <a:ext cx="1981440" cy="91440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epublica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2362320"/>
            <a:ext cx="0" cy="4572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86600" y="2362320"/>
            <a:ext cx="0" cy="457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2819520"/>
            <a:ext cx="28191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ite southerner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preservation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ite suprema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athol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cent immigran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esp. Je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rban work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or (pro-lab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st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2819520"/>
            <a:ext cx="312408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rthern whit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pro-busi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frican Ameri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rther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te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ld WASPs (suppor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or anti-immigran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st of the midd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848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StageCoach"/>
              </a:rPr>
              <a:t>4.  Very Laissez Faire Federal Gov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1371600"/>
            <a:ext cx="70866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rom 1870-1900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Govt. did ver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ttle domes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in duties of the federal govt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liver the m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intain a national milit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llect taxes &amp; tarif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duct a foreign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dminister the annual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ivil War veterans’ p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66680" y="304920"/>
            <a:ext cx="7848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StageCoach"/>
              </a:rPr>
              <a:t>5.  The Presidency as a Symbolic 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1595520"/>
            <a:ext cx="777240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y bosses ru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sidents shoul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id offending an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actions within thei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wn pa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President jus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led out federal job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1638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865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53,000 people worked for the federal gov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1638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890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166,000   “       “      “   “     “      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2432" r="0" b="0"/>
          <a:stretch/>
        </p:blipFill>
        <p:spPr>
          <a:xfrm>
            <a:off x="6172200" y="1371600"/>
            <a:ext cx="2403360" cy="3048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5898600" y="4424400"/>
            <a:ext cx="30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mic Sans MS"/>
              </a:rPr>
              <a:t>Senator Roscoe Conk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304920"/>
            <a:ext cx="815328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StageCoach"/>
              </a:rPr>
              <a:t>1880 Presidential Election: Republic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14144" t="9461" r="13132" b="18414"/>
          <a:stretch/>
        </p:blipFill>
        <p:spPr>
          <a:xfrm>
            <a:off x="2743200" y="4022640"/>
            <a:ext cx="1692360" cy="22100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1828800" y="1371600"/>
            <a:ext cx="1752480" cy="1143000"/>
          </a:xfrm>
          <a:prstGeom prst="ellipse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Half Br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1371600"/>
            <a:ext cx="1752480" cy="1143000"/>
          </a:xfrm>
          <a:prstGeom prst="ellipse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talw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905120"/>
            <a:ext cx="53352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867280" y="1905120"/>
            <a:ext cx="53352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507200">
            <a:off x="4190760" y="1295280"/>
            <a:ext cx="1676160" cy="1295640"/>
          </a:xfrm>
          <a:prstGeom prst="irregularSeal2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1994000"/>
          </a:gradFill>
          <a:ln w="0">
            <a:noFill/>
          </a:ln>
          <a:effectLst>
            <a:outerShdw dist="17819" dir="2700000" blurRad="0" rotWithShape="0">
              <a:srgbClr val="989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259092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n. James G. Blaine                  Sen. Roscoe Conkl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(Maine)                                 (New Y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62326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James A. Garfield     Chester A. Arthur (V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486400" y="4022640"/>
            <a:ext cx="1751040" cy="22100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3429000" y="3048120"/>
            <a:ext cx="533520" cy="8380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038480" y="3048120"/>
            <a:ext cx="2362320" cy="8380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3214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mprom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81080" y="395280"/>
            <a:ext cx="61722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StageCoach"/>
              </a:rPr>
              <a:t>1880 Presidential El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619760" cy="4093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228600"/>
            <a:ext cx="81532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StageCoach"/>
              </a:rPr>
              <a:t>1881:  Garfield Assassinate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3750" t="6419" r="3750" b="9537"/>
          <a:stretch/>
        </p:blipFill>
        <p:spPr>
          <a:xfrm>
            <a:off x="1219320" y="1143000"/>
            <a:ext cx="5638680" cy="4114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629400" y="3657600"/>
            <a:ext cx="2286000" cy="2819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2438280" y="5410080"/>
            <a:ext cx="4648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arles Guiteau:</a:t>
            </a:r>
            <a:br>
              <a:rPr sz="2400"/>
            </a:br>
            <a:r>
              <a:rPr b="1" i="1" lang="en-US" sz="2000" spc="-1" strike="noStrike">
                <a:solidFill>
                  <a:srgbClr val="c00000"/>
                </a:solidFill>
                <a:latin typeface="Comic Sans MS"/>
              </a:rPr>
              <a:t>I Am a Stalwart, and Arthur is President no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1:39:57Z</dcterms:created>
  <dc:creator>Susan M. Pojer</dc:creator>
  <dc:description/>
  <dc:language>en-US</dc:language>
  <cp:lastModifiedBy>Brent J. Freccia</cp:lastModifiedBy>
  <dcterms:modified xsi:type="dcterms:W3CDTF">2008-01-20T19:55:11Z</dcterms:modified>
  <cp:revision>136</cp:revision>
  <dc:subject/>
  <dc:title>Gilded Age Politics in America</dc:title>
</cp:coreProperties>
</file>